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CF0-2DB7-4E3E-AA4D-A8D15FAB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CC4-34E6-4539-90D7-D0083A11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E43-4309-40CA-A64D-F5D776A6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1FD-17E9-49F0-8234-B457B82E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2C1-8CEA-4DB8-9F4A-9C0C2A6B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3B5-20C3-48C7-B3C1-B3FE0ED0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62D-0A21-4EBD-BF7A-2682B0CB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61E-DF6F-4F47-8B1C-6D3DF27C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43A-A31F-4B30-9F4B-06EC99A0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1E1-46C1-42C2-AAA7-A7FA581E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6E8-AEFB-448A-B746-1CA482D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C5D-05A5-45C0-9D63-FF7B595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D834-AD00-483B-AF2F-256E14225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 Lis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 list the name of the whole lis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 java.util.*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‘array lis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 list = new ArrayList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add (“eggs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data from user and put it into an existing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void addAnItem (ArrayList list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.add (textField.getText( ) )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ize/length of a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umberOfItems = list.size 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es an int that says which item in the list is refer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0] bread…[1] milk …[2] cof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ying an ArrayLi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229 “Displa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Area.append ( list.get (index) + new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crollPane allows a textarea that is too small to display the whole list – one piece at a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crollPanes appear only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 indices page 2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31 display item – user inputs number (3) method outputs description (coff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.setText((String) list.get(index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ing items from an Array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remove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 index of 3 item is removed from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ing items within an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.add(5,”tea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 months = new ArrayList ( 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s.add (“January”) 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33 actionPerformed …monthNumber (which mon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 monthName (“Januar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NameTextField.setText (month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thmetic on an Array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is an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of program sum all the numbers in the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35  getSum and getLar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36 Searching – loop through an ArrayList for a specific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/when found outputs “Item Fou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6:33:06Z</dcterms:created>
  <dc:creator>ITS</dc:creator>
  <dc:description/>
  <dc:language>en-US</dc:language>
  <cp:lastModifiedBy>ITS</cp:lastModifiedBy>
  <dcterms:modified xsi:type="dcterms:W3CDTF">2005-05-03T16:43:18Z</dcterms:modified>
  <cp:revision>2</cp:revision>
  <dc:subject/>
  <dc:title>Array Lists Chapter 12</dc:title>
</cp:coreProperties>
</file>